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jpeg" ContentType="image/jpeg"/>
  <Override PartName="/ppt/media/image32.png" ContentType="image/png"/>
  <Override PartName="/ppt/media/image22.jpeg" ContentType="image/jpeg"/>
  <Override PartName="/ppt/media/image39.png" ContentType="image/png"/>
  <Override PartName="/ppt/media/image21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23.jpeg" ContentType="image/jpeg"/>
  <Override PartName="/ppt/media/image2.jpeg" ContentType="image/jpeg"/>
  <Override PartName="/ppt/media/image20.png" ContentType="image/png"/>
  <Override PartName="/ppt/media/image31.jpeg" ContentType="image/jpeg"/>
  <Override PartName="/ppt/media/image35.png" ContentType="image/png"/>
  <Override PartName="/ppt/media/image5.jpeg" ContentType="image/jpeg"/>
  <Override PartName="/ppt/media/image4.png" ContentType="image/png"/>
  <Override PartName="/ppt/media/image12.jpeg" ContentType="image/jpeg"/>
  <Override PartName="/ppt/media/image37.png" ContentType="image/png"/>
  <Override PartName="/ppt/media/image34.jpeg" ContentType="image/jpeg"/>
  <Override PartName="/ppt/media/image7.jpeg" ContentType="image/jpeg"/>
  <Override PartName="/ppt/media/image28.jpeg" ContentType="image/jpeg"/>
  <Override PartName="/ppt/media/image36.png" ContentType="image/png"/>
  <Override PartName="/ppt/media/image40.png" ContentType="image/png"/>
  <Override PartName="/ppt/media/image48.png" ContentType="image/png"/>
  <Override PartName="/ppt/media/image9.jpeg" ContentType="image/jpeg"/>
  <Override PartName="/ppt/media/image11.jpeg" ContentType="image/jpeg"/>
  <Override PartName="/ppt/media/image33.png" ContentType="image/png"/>
  <Override PartName="/ppt/media/image45.png" ContentType="image/png"/>
  <Override PartName="/ppt/media/image6.jpeg" ContentType="image/jpeg"/>
  <Override PartName="/ppt/media/image27.jpeg" ContentType="image/jpeg"/>
  <Override PartName="/ppt/media/image46.jpeg" ContentType="image/jpeg"/>
  <Override PartName="/ppt/media/image30.jpeg" ContentType="image/jpeg"/>
  <Override PartName="/ppt/media/image43.png" ContentType="image/png"/>
  <Override PartName="/ppt/media/image47.jpeg" ContentType="image/jpeg"/>
  <Override PartName="/ppt/media/image10.jpeg" ContentType="image/jpeg"/>
  <Override PartName="/ppt/media/image38.png" ContentType="image/png"/>
  <Override PartName="/ppt/media/image8.jpeg" ContentType="image/jpeg"/>
  <Override PartName="/ppt/media/image29.jpeg" ContentType="image/jpeg"/>
  <Override PartName="/ppt/media/image26.jpeg" ContentType="image/jpeg"/>
  <Override PartName="/ppt/media/image42.png" ContentType="image/png"/>
  <Override PartName="/ppt/media/image44.png" ContentType="image/png"/>
  <Override PartName="/ppt/media/image1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2B399-F59A-4F4D-A46D-AE13F565A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EF0F9-DAE4-4DBB-968B-1869CF844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F2AEA-9AA4-4F4C-9C0C-3EB66DBA2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01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696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01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696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EEABF-03E5-4508-9EC8-17451A309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977BF-CD54-4E89-90BC-E5928E72F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8807B-EAC2-469D-88EB-3EA1A4C6C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30BC3-DDFD-4CA3-9731-ACD6028E0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2BC2E-A362-4AAD-A6FD-7DDBF589A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709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33439-AFC2-402D-95B9-027DA0FAC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00022-C83B-4738-8B31-9D47C30E8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CB9C3-15F1-4079-851B-4E1DF83B2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9EFA8-4561-417F-9636-67052E8B6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61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39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080"/>
            <a:ext cx="2346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12062D-670B-4A5D-8A5D-1E66C3F2FEA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92000" y="395280"/>
            <a:ext cx="8569440" cy="162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 Narrow"/>
              </a:rPr>
              <a:t>*Série Dark’n’Luke*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10920" y="1763280"/>
            <a:ext cx="7056360" cy="19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Version alchimie 0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224000" y="2246400"/>
            <a:ext cx="8856720" cy="531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22120" y="1079640"/>
            <a:ext cx="949824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22120" y="1079640"/>
            <a:ext cx="949824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61800" y="1079640"/>
            <a:ext cx="949824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22120" y="1079640"/>
            <a:ext cx="949824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22120" y="1079640"/>
            <a:ext cx="949824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22120" y="1079640"/>
            <a:ext cx="949824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61800" y="1079640"/>
            <a:ext cx="949824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539640"/>
            <a:ext cx="10080720" cy="587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90520" y="1079640"/>
            <a:ext cx="949788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90520" y="1079640"/>
            <a:ext cx="949788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90520" y="1079640"/>
            <a:ext cx="949788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079640" y="0"/>
            <a:ext cx="8353440" cy="740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90520" y="1079640"/>
            <a:ext cx="949788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61800" y="1079640"/>
            <a:ext cx="949824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90520" y="1079640"/>
            <a:ext cx="949788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90520" y="1079640"/>
            <a:ext cx="949788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90520" y="1079640"/>
            <a:ext cx="949788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90520" y="1079640"/>
            <a:ext cx="949788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90520" y="1079640"/>
            <a:ext cx="949788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290520" y="1079640"/>
            <a:ext cx="949788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290520" y="1079640"/>
            <a:ext cx="949788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89080" y="1079640"/>
            <a:ext cx="949788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290520" y="1079640"/>
            <a:ext cx="949788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361800" y="1079640"/>
            <a:ext cx="949824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079640" y="276120"/>
            <a:ext cx="8137440" cy="709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216000" y="324000"/>
            <a:ext cx="9864720" cy="67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49120" y="973080"/>
            <a:ext cx="9579240" cy="574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98360" y="900000"/>
            <a:ext cx="9823680" cy="589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27080" y="900000"/>
            <a:ext cx="9823320" cy="589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90360" y="900000"/>
            <a:ext cx="9823680" cy="589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27080" y="900000"/>
            <a:ext cx="9823320" cy="589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27080" y="900000"/>
            <a:ext cx="9823320" cy="589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54160" y="1079640"/>
            <a:ext cx="949788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200160" y="900000"/>
            <a:ext cx="9821880" cy="5892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-9360" y="1079640"/>
            <a:ext cx="1009620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98360" y="900000"/>
            <a:ext cx="9823680" cy="589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27080" y="900000"/>
            <a:ext cx="9823320" cy="589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539640"/>
            <a:ext cx="10080720" cy="604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63440" y="900000"/>
            <a:ext cx="9823680" cy="589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681120" y="138240"/>
            <a:ext cx="8859600" cy="74167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647640" y="34920"/>
            <a:ext cx="8859960" cy="741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249120" y="1055520"/>
            <a:ext cx="9579240" cy="558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216000" y="74520"/>
            <a:ext cx="9504360" cy="748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61800" y="1079640"/>
            <a:ext cx="949824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61800" y="1079640"/>
            <a:ext cx="949824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84040" y="1055520"/>
            <a:ext cx="9579240" cy="558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61800" y="1079640"/>
            <a:ext cx="949824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22120" y="1079640"/>
            <a:ext cx="9498240" cy="55339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 miqueau blaise</cp:lastModifiedBy>
  <dcterms:modified xsi:type="dcterms:W3CDTF">2006-10-22T17:11:57Z</dcterms:modified>
  <cp:revision>4</cp:revision>
  <dc:subject/>
  <dc:title>Diapositive 1</dc:title>
</cp:coreProperties>
</file>